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213-3F80-486B-B159-0FBC751C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36C-0997-4AC7-887B-A9053486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3B3-3ED2-4BCC-9F4A-52A58667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16B-1C0B-4E4B-83EA-5B5FEDE6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6AFC-AD0B-46FA-A67E-36FE07B8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99A0-44FE-416B-8770-762617FA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D0B3-0AB5-406F-A49C-CAC49B21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839D-90B5-43BB-89BA-9485A5E0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9CBF-8DD7-489D-A436-9A52CA38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DB68-69F9-4EB5-AEB2-1ED0E02C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9336-F15D-4285-A087-365EF6F8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057-3511-465D-B349-D333A6F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B36C-9C51-4F0F-9A15-B4340AA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B422-1963-4092-8BE3-0540D8FC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2EA1-FBDB-412C-A053-741E176A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95AF-44B6-4E33-A6AF-BE4BCE18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4E5B-FEE9-430E-BDB4-6A90D35C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44F9-2E14-4FD6-818F-EB428383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8443-9EB2-459C-8FD1-72C002E7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38CA-7BFE-4C7C-9890-F37EDC91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E1BA-B98C-4B87-AEEE-ED234AE5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B038-B8A5-48DB-A3CA-DEE5619E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1BA-07B4-40B2-BEC6-14CD7C28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59E5-F0E7-4348-8D62-E51EFC03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7DB9-2998-484A-A08A-DB6FAFF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78FF-4DE4-4BC4-8A93-3C30620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84F4-1C08-4BEE-A9B3-9ACED4D1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E611-A772-4B62-8CA8-D7E45C39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3E89-C66C-4337-8D3C-36B3A6E1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378A-F53F-4D3D-A50B-731D0D16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41B7-12B6-4E36-B845-5D8762A2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4EF7-026A-4639-BDE1-2F2AD3AE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9C49-A1E2-427C-96FC-59F4987B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78C-F1CD-43DF-99D9-E37690F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2808-D76A-47C7-A040-1B21F700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F874-5A89-4228-ADDB-9BC22860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9312-3DC3-476E-A2C6-1F9C6CD3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A4C4-11E8-4AA1-A991-6543530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03E4-6824-4236-BC71-586ECC0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0D79-5BD7-4152-B1E1-91E3CC4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10D9-3A28-45B7-8956-35760F9D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CE85-3D23-449A-BCA3-4B4E66FA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E896-56C6-497E-995F-D922A05F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E673F-8E72-409C-BEEF-FD1B695CD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B32-83DA-41DD-8449-4B0AB8B7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3A9075-B261-4978-9C67-ECAEFB0508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F803FA-EF6C-465E-B211-1ABA1DDF05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117E2-25B5-4D08-93B4-533F7066A5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211A13-D9BD-429A-991F-CFF0F5E551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F09F2B-5C0E-4942-A45F-0D83A509F51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63758C-A65A-4A58-9B44-5FD043C4231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0A051F-8E1A-4913-AB1D-F432260F7CC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14A0CD-5EAF-47E6-B49A-404756F921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7F156B-6194-4CD2-A9AA-DC5BE575AC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09C600-1815-4CD6-A155-D4361CB88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DEF-B1E7-4AE9-B90F-811F272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CBF075-6463-433E-9C34-D903223CC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997-56D7-42FB-B75D-37C0E724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8BA-825F-4986-A2F5-2DC9B766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EA3-8DF7-4DC1-9F86-CE593832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CA07-5013-400F-BA2B-1D065D6D2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1EFF-353C-4AD0-9F2B-43F9EE2E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8AB0-344B-4656-8D7B-BDB93F6AC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E6E6-6697-42A0-B9AF-D7305A9E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C817-0893-487B-87B2-714EBA8904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FAKA- AFRICA RISING 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Operations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Linkages with Local Governmen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terly Review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ANTE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W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UNISIKILI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IN ACTIVITIE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ct Incep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Annual Wor k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ze Based System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st-Harves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getabl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ice Based Systems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Demonstration Protocols, Field Layouts, 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: Activities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 of NAFAKA Agronomists and 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meetings with Associations and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Sites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 Harvest Technology Survey/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1 Results to date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543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2 Demonstration Sites Established- ( Target was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Groundnuts demonstration sites (5 Kongwa, 1 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Maize (Mono-crop) demonstration sites( 5-Kongwa, 5 –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Maize- beans Intercrop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Soybeans demo sites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50 Learners Particip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Planned Activities (March – Ju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zed Rotary Weeder demonstration with Africa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P Training to Lead Farmers/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T Training to Agronomists/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of Established Dem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mation/Strengthening of District Innov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- Harvest Technologies demonstration(PIC bags, Hermetic Cocoon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Field Resource Book/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ice based Syste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user</cp:lastModifiedBy>
  <cp:lastPrinted>2012-10-29T12:01:56Z</cp:lastPrinted>
  <dcterms:modified xsi:type="dcterms:W3CDTF">2015-03-05T11:46:10Z</dcterms:modified>
  <cp:revision>302</cp:revision>
  <dc:subject/>
  <dc:title>PowerPoint Presentation</dc:title>
</cp:coreProperties>
</file>